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2A3-2621-4FB8-B242-95E20074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418-240C-4E55-BE27-3FA9785E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DC8-03D1-4873-A9A4-C22E634F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9F1-A3BB-4DB9-87FB-6F2502F0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E884-0D29-4670-9CBD-E8780F11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5218-B871-441E-989E-F0135CD3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1749-568F-4D94-B92E-AB91F458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4D45-40F5-40E6-BFFB-B6ACB3B2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CC24-A0B1-42AE-8DC2-6264C12C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3C58-B61C-4FB0-B4E2-76171759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D24E-3232-4A16-8B0D-307A5582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33F-5D98-4DEA-8362-FF280BDA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1EBE-0503-452E-83D9-276B03FE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CD33-9C3D-439D-A215-E44A8546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1249-B1C8-421D-8B5E-C1226576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3C4B-E677-456F-8700-8CCE020D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CC02-5A5F-4070-9299-ACD79D7D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35118-7BEF-4B54-9CBB-8B549337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61D86-7D5D-48CF-B8CE-11775141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78ADC-E1C7-4B52-91DF-994A4BFE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D7704-4D41-46D6-9220-85B9774C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4F51A-760A-498A-BDC3-B95B4953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268-4B73-4349-9CEB-BCB4BC3A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8B3AF-9EDA-4D22-B4A4-70698C56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9DCF2-E41C-4A3C-B15B-4C2ED734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DABA1-A90A-4F07-AB39-D791F2CC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1424B-CF4A-4DAB-97D5-E091B035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CAB41-7A6B-4CF9-BB6F-89C78862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6775C-A0D3-4BBB-A191-EFE19A89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87DF5-BC20-4C45-B514-9F0AF396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7FB184-9B85-4410-A1BC-A19AB82F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6B373-6594-4AD7-B9C1-AD26A69E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8AC6F-0210-4B68-845C-3EDA367A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F68-3B4B-439C-AED0-09E208E9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AC890D-F901-46AE-9C7E-1F077781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06550A-189F-46A5-A593-3F68ECC0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91A829-CACC-4713-8838-3D5F79CF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668957-9960-4D93-AB33-A42E909E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D02C82-6DC0-422D-A97F-8B5C92D4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6598C-55B4-4820-9E34-221F0AF6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86CA6A-124B-4DBE-B0DD-11A36A40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6CAE72-A0A2-43BA-8380-6178F994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B42C21-81AE-4A69-85EA-89ECA204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74E4F-5B9A-4E09-A651-DA0FC99E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646-A722-4D40-B2D1-29F5B762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71FB0-022C-4B02-B930-9D1D94CF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58479-A86E-45D8-9536-2A260B42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D9F169-90DC-4622-88B0-F416545D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C1B8DC-1AFD-4B5D-817A-6DB8E882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1F612-4C4E-49C4-A012-924B2859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24FD6-2202-4B0A-8A1E-C8F6E81F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C2FF4-9417-4061-9BD0-DED4460D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24D23-3D45-4B82-897D-143D7264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D78DC-2670-4898-9ABD-36676927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8FABD-D022-41C2-98EB-B3CE5461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71A-BBE3-4449-8299-76949BB0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FD197-0AD9-4FB3-9FA0-7386D7EB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D9B7E-F8B5-4538-9DC5-905EAA74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CAA64-DE4B-448A-B344-F3952AA5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8CCD4-62B5-4AD1-B2D4-874FDDA3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ECD44-31A7-44E6-843E-568C3EBD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67207-0A95-49B3-B52B-0672075D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6CD84-B292-49F3-A007-2B40DE21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F5BFB-14A7-41EA-AAD2-DA6E47AD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FD863-1016-43E8-A9EA-A74B7DBB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5E5C3-D4BA-42DA-9CC0-E552E0EB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3CA-CCBA-40DC-B714-617B81D0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0F3D9-91CD-4F68-BCC2-77B97E34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33297-BDCF-48D1-B774-9AB85ED5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D638D-3A68-46B9-BC68-271A7116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4CEBB9-61AA-452C-86C9-65C1131C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2F98EA-3ABE-490E-8624-E6DDF87A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4264B9-C368-4DB8-B509-D053AF0E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6D198-F3F7-4B7B-B9A1-8F34FBD6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63A4B3-0222-400C-8369-2487C02A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9FE93-9C2A-45CA-B5E1-941FF543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1C9ACA-681F-4A31-A62E-03CA7199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389-A158-4669-BFBA-24591EB0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71A6C8-B339-4EE1-921E-DB53C7C2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854A19-E55D-4C6F-8030-761DFCC3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C2FA3-34DF-48CF-89A2-06DDC651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49C07-B45C-499E-BF13-A472E2A9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30DDC-2FA9-42B4-BF52-C5CE11BE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C4532-935A-45CF-B878-8B1FC7CF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7E298-0D5A-408D-ADE9-B4CE1472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2E84D-4417-4A10-8068-8B9E69DD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A2A60-7BB5-452E-BB8E-F4736B3B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E0A62-1A70-4C70-B6BF-510FE60A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2A2-B02A-40C2-A95D-C069C94E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E9D77-BF4D-4252-9BDC-F097B9E3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E0315-4F8F-4A25-8CF3-70DDB4D1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5C4B4-4A64-4277-A97C-D9F80DD7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FEB35-4274-4FE9-8CE7-0DF9182B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6F15C-0ECB-4549-9270-822E4213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A0AC6-F5BF-4401-9B3F-8A1FD99B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5D81D-22DD-44E8-819E-6AA8932F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AA21-61F6-447A-A45D-70BCE04F1BC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4734-5897-4440-9B36-C21024A70189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6CB0-4461-4F28-99FE-80625382F9CD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AE8E-1670-4F22-88DC-8BB4389BE31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5ACD-36E2-4E38-8667-F45BBF1239C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37AF-A617-4AF5-A6AA-CF61E0AEB80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C76A-9C1B-47FD-83C1-9CD8414011B6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D314-1B76-4603-806E-859EE41E5CA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UNIT8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hea and chri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371600" y="2742840"/>
            <a:ext cx="7122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Interest rates and Money supply cannot be controlled at the same tim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When stabilization of Money occurs interest rates increas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When Stabilization of interest rates occur Money supply will shoot up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Effects of Money Supply chang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etarism vs. Keynesia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n’t differ significant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fferences do ari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rol of money supply or interest ra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eloci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# of times per year an average dollar is spent on goods and servi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atio of GDP to # of sellers in money sto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=(GDP)÷(Money Stock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quation of exchan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(Money Supply)×(Velocity)=GD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Quantity theory of mone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urns equation of exchange into economic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%∆M+%∆V=%∆P+%∆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conomists can predict GDP growth by controlling growth of money supp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fferent measure of velocity for M1 and M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amination shows neither is constant in short ru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dels based on constant velocity have not fared well and strict quantity of money not good AD model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terminants of Veloci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equency of Cash Infus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re frequent cash payments mean that people can conduct their transactions with lower cash balances because they will want to hold less money will circulate fas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fficiency of the pay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bility to transfer money between account quickly has led to an increase in veloc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terminants of Veloci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est Ra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wer interest rates makes savings account less profitable makes people hold more money increasing veloc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etarist’s approach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elieve that %∆M+%∆V=%∆P+%∆Y is best way to study economic growt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2 main ques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59364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What does this event do to growth rate of mone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59364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What does this do to velocit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94b6d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netarists look at Nominal GD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spcBef>
                <a:spcPts val="700"/>
              </a:spcBef>
              <a:buClr>
                <a:srgbClr val="94b6d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eynesians look at Real GD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ither look at Supply side of econom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ly s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eynesians use i to predict how monetary policy affects aggregate demand and then use aggregate supply curve to see the inflationary consequen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netarist use velocity and then use the supply side to see how nominal demand affects gets apportioned between changes in production and pri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ither is strictly bet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ed Contro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netary policy is not the only type of policy that effects interest ra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creases in government spending or taxes increase interest rates which reduces veloc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trictive policies push interest rates dow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d cannot control interest rates and money suppl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2:39:52Z</dcterms:created>
  <dc:creator>miller.s784</dc:creator>
  <dc:description/>
  <dc:language>en-US</dc:language>
  <cp:lastModifiedBy>HP Authorized Customer</cp:lastModifiedBy>
  <dcterms:modified xsi:type="dcterms:W3CDTF">2009-01-27T21:53:16Z</dcterms:modified>
  <cp:revision>7</cp:revision>
  <dc:subject/>
  <dc:title>Unit8</dc:title>
</cp:coreProperties>
</file>